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CCBE3C44-FF2B-4BDC-9290-3A135D9394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9AE44159-4CC0-4B98-B71A-1B3F5B73B4F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BC1E1B78-198C-492A-9785-DADE8A23CAB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B5E0EF7F-7818-4360-8132-98490A19321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3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2409FE2A-7E7C-41C9-BF07-1FA91CBA13A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FE82B079-328F-400F-AEB4-028010658D1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8046A2D1-A8BB-4169-B8EF-0DB2B33CF4A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24F46C63-E185-411B-8E8B-0CAB3C726BD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2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B20C7E05-C10E-431E-A33B-EBCAED42406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5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33B18769-5E5F-44AE-B7C0-B0882D00E3C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98F90335-9BB8-4E11-ADD5-E946D8A96A3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87BA64BA-FA4E-446B-AC96-7802C77AFAA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4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4536E1FD-86A7-420C-B871-980534A3C11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A07-092B-439A-B6FB-970E0262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537-B2AF-4CFD-BDE3-8BAA6F9B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2FBE4-3A6A-43BD-9821-A510DF8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AB7EB-8B53-4502-9A41-341AE89F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3A287-7545-43F3-85BE-75C1319C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3F12B-7BE9-469E-B21C-6A44C3C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FE69C-9A3B-45C8-B17A-6E492A3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75CF8-0D08-46EF-9C0A-BBAD1975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ED041-66A2-4362-A46B-6AD81F6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A11B4-7109-4F74-9B5C-3EA42642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BCA57-D2AC-4AF1-BB69-8D29353C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5254-99C3-4923-91CE-D15CC8DD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F9A-9382-4A9F-92E1-B380C23E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22310-A243-4395-9E57-8AA20EA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F61F6-5C98-4AEF-8072-E39D08FE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9C0B5-783C-4D1E-952C-71EEB43D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D630E-8C4B-4F1D-9361-691638D4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8D69F-DC35-4D70-92D8-29769C48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4F7CA-5219-4D83-88FB-64B7F6F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67C6C-42E9-4433-9592-A5BF286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47574-6206-4D69-84B9-8DF6D38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8AB94-E0EE-4022-8B81-4534FBF3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CFAD2-2AC3-41CE-9C2C-22A07F8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70D-F851-4D4B-8C33-248CC626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ADF81-FEE6-496F-B26F-CFD948CD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84C27-5455-4F71-BF54-9AB18495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4CDA-6FE7-4A8C-9619-0E029298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FEA15-E0E6-47EE-B80B-6B750CD0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EE3D2-0D01-4E9C-AC6A-B6D383E9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662B2-912B-4291-B8E9-05449A90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7032E-E27E-4F18-8302-C7A8F37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CBCB5-133B-42E5-B194-C48FD66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A0619-C41E-47E6-B541-C4AF1A3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C6E4B-A388-4584-96B4-3BA6DEBC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2116-2CD3-4650-AC90-9DA23A52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D0469-FDDF-448C-95B9-65487B2D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88579-A580-4ED0-B873-B7AD557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51E39-FB3A-4801-AB62-18D67EDF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4E91E-6B6F-41DA-A981-AE316DAE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6BCE8-5798-45AA-9A97-12EFC53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19E24-4098-46F0-A549-D7443968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53F7F-E92B-40CE-A29F-D2DA2B1D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027A3-E87B-452A-80C5-E5A31FA4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D0776-4ADF-4961-A68D-9E9C0AE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20FFB-3EA9-44ED-8EE1-63E828A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6F65-3D1E-4E7B-A4DE-0879FB29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2AAE7-837F-4226-BD6C-C5EF68F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C9690-8B9F-498A-AF1C-4942F79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DFFE0-BEDB-4B1A-94AD-12669B6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D67A2-8EE9-4AD8-AD1F-193DE20C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1897D-3ED3-4EFA-BC64-299E3E28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8049-130C-45C1-9D53-4A4D83A3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9098-4A62-40CD-B4C6-BAE55000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EB0-9BD9-4E2F-84A4-03DC1E3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A61D-EB2E-47BD-9DA6-E7A1ABD2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246A-83AF-4D37-9F25-03D7F64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80B-AEAC-4DC8-855B-A6B5239B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8A44-CDC3-478D-8DC2-8D4A072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925E-E87A-4E8F-B328-3EFFDE6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DB6F-0B82-4F6F-97C0-3DCE10C5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7AC8-856D-4F09-B140-46BB9160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775F-5DDC-4AC2-B46D-78FF0056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5648-5399-4D4C-8424-A46031B4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0E1D-ED3E-454F-A05A-025499E9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CB01-F2EF-4F52-A088-C9530835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6FE9-C187-4784-9ACD-5110175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9154-4198-45C8-9A97-7FE54102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246-6B67-4E1B-9E8D-18B1275A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18D6-E1B6-4B48-95F5-53541BC0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A726-CAE1-4BF0-8D3B-9C1A5F6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EB8C-23EE-4698-9577-90F26DE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A2BB-4879-4266-9AFE-68F208F9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AF20-B8BA-45DA-8FA3-28196453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D489-C47D-4409-BB5D-1FD1CE25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B8DA-C137-49EA-B7CB-481DE92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0AE5-32AA-4BE1-B8ED-DDB45A4E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0DB2-5517-45FE-8CF4-8D707EB3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8C7D-8BB5-4672-BCE3-709FB54F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5A7-253C-4D05-A66F-4A510F60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F7B2-EB71-4753-AB03-3805D0EA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2079-B2B8-41D1-9A47-7DD3B41E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F8E9-F1BE-470E-8D55-1EF1CDFD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3A990-0FE1-45F6-B2BF-B0CD595E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BC9E-4522-4D0D-AB14-42394AC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5435-69F4-4DD3-96DC-223CD24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124B-808E-46E6-AC78-852A0806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F44C-9682-4100-849E-120096FF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887C-D392-438A-8854-171DEFFF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B55D-8312-4454-BF0C-ADC63F02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DBF-03AF-4616-966D-C4DCEE9D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4EB6-E0EC-425A-AE43-8D315BC4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C0AC-7F50-42D4-81D2-149B4500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E698-AACA-4257-8F01-02AB118C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ECD6-9EF0-47B7-8F78-F45D8652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A5E0-7770-4623-9A9B-F9043CA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F74D-8DDB-432D-BDC9-587BB40A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AB01F-24AF-4777-AB7B-68A291D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C219A-6CA5-4866-8B04-1798700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EDBF7-C92C-41EF-97C3-85C1ED91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17C63-314C-449C-A60D-F6F93D02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286-0384-4349-A2C4-D0527BEF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F8A1-1075-46C8-8940-EFC37F63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05BF-4D44-43B3-9F3B-EE1B8D05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C3CD0-B733-4110-B7BE-45E89ACD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752EF-9C28-48F4-AF59-3BEA96F7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4B59-AADC-49F4-85A9-FF912780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7497-587E-4D42-80FF-08C91D05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223C-EBB8-47E5-A0D4-3055AA10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9C9D-7CFF-41B5-A96A-5743BAE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6973-C1FA-4548-9FB8-CD90A54C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C1F9-EFD7-4D9C-B61B-EABF128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7C4-02CC-4F76-B503-ED06FCA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92D1-2932-4C1D-BBA0-E392F3B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9152D-68C0-4B44-BC7B-3484D785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669D-3A8A-4338-846E-3B3C99FF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8984-8766-4616-87F0-876C67D9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2274-4C79-46FC-9F14-6F23AA93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01EB-4BAC-44BE-BC73-E134D25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A1CA-973D-48CD-9D50-E15286EB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507C-185A-4343-9317-0F298E6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1F1C-0774-4ABA-A011-4793D00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69F4C-137B-4178-8573-B4D0C1D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AA4-3E24-45F2-9753-C54A1A1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C51D-C11E-4879-BF3C-776E260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5E575-EA6F-4700-BBF1-25FCAF1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6A3A-406F-4DA4-A1F1-7CE371C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F513-CEF8-4640-89FA-870E1003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5F7C-7717-43A6-8CA0-A8A348B4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08622-7466-4ABC-812D-3892C7D1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5DF14-33C8-41A8-8818-D677773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D1572-5B20-440A-89E5-1977058B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5153E-6805-4BB1-AE2C-70BDDF9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D84E5-D7B3-40AC-BB79-1E14E725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5C6-DB14-4458-ABA2-208032B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6DA33-8B8D-4822-A8E0-8CEA2284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F501-AF6E-4464-9903-E919940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55917-0DDA-4FDE-81C5-A6023B9D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238A0-6B62-4BF7-8B34-6AE7C8C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071C1-1A01-4C52-908C-6BB4B13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5E84-07FD-4368-B668-E7DA6E47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8EAB0-7D13-4CAB-890B-E007D3FE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4C563-6F01-4E1E-835D-A50BADB9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8E13A-6542-4F1C-AEB4-CE03A3F8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29CBF-32CB-428B-977A-13274A35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60CE40-40CF-4C1B-80D1-DDCA226F0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E1B2FE-DE1B-462F-95DD-6C80AF71CC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7847A1-3498-4AC4-941F-E013576BA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F573D5-AFB8-40F0-862A-CAC773976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31B82D-25A5-45B1-97D3-BA3F53B46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1CE280-A241-4FCB-8F94-6814218C0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BC334D-FEEC-43FE-B419-E8CDF9890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1F2905-1DD1-4E39-A0D4-884E53027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BA5823-7722-4D60-9918-8A3A2EE449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36472B-1E47-453B-B248-0D84A72D59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231D87-6E40-494B-9416-E60E2299DB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67740C-E5BB-4A97-9E74-E52320A35A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914840" y="2103480"/>
            <a:ext cx="631152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Go Tell It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On The Mountain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408760" y="1417680"/>
            <a:ext cx="53395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 made me a watchma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Upon the city wall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if I am a Christia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am the least of all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236600" y="1417680"/>
            <a:ext cx="76834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ile shepherds kept their watch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ver silent flocks by night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hold throughout the heavens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shone a holy ligh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1357560" y="1417680"/>
            <a:ext cx="74412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shepherds feared and trembl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en lo! above the ear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ang out the angel chor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at hailed our Savior's bir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023560" y="1417680"/>
            <a:ext cx="61092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own in a lowly manger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ur humble Christ was b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God send us salvatio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at blessed Christmas m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284200" y="1417680"/>
            <a:ext cx="55879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en I am a seek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seek both night and day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seek the Lord to help m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He shows me the w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cwade</cp:lastModifiedBy>
  <dcterms:modified xsi:type="dcterms:W3CDTF">2015-12-05T17:21:04Z</dcterms:modified>
  <cp:revision>1580</cp:revision>
  <dc:subject/>
  <dc:title>Slide 1</dc:title>
</cp:coreProperties>
</file>